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247-5924-4682-B2BC-73F571C3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8DE-4667-4A65-A035-A42C93CC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9EB-3BBF-4DA7-A352-8A1778D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1A2-8C5E-4DE2-8750-320B9637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A7B-B2AE-44CA-807E-95054FE3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59A-1434-4838-A9B8-8823707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189-D155-4AA6-A71D-1E68DF0D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A76-F62F-4657-A3D3-5B35F0BC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9FB-4310-4C10-8A35-4D9E8FA1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4AA-5C0E-48A4-9B16-4BB869CA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CB7-EC3A-410C-902F-73022B5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350-5ED7-4379-88F7-82984F9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3F1-6A12-455D-B31A-B5A4D4C5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457200"/>
            <a:ext cx="842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14504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-up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243160"/>
            <a:ext cx="6004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752120"/>
            <a:ext cx="8832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op-up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magnetic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print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alogen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wer 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49600" y="1655640"/>
            <a:ext cx="58611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5720" y="1824120"/>
            <a:ext cx="6499440" cy="450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open frame and position it where you want the display to finally 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 middle joints together to secure fr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should be concave and will stand without as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03520" y="2052720"/>
            <a:ext cx="6497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c Str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654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four magnetic strips to the front of the frame and two strips to the back edges of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98640" y="2057400"/>
            <a:ext cx="6108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ed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how printed panels have magnetic clips in the corners and magnetic strips along the ed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64976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dle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with middle panels (#2-4), attach panels to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03520" y="1905120"/>
            <a:ext cx="6497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de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s #1 and #5 wrap around the sides of the frame and secure to magnets on the front and back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03520" y="2057400"/>
            <a:ext cx="64976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ights may be attached to the top of the frame. Note: the lights will not snap securely to the frame. Instead, they use gravity to balance between the bars. Diagonal grooves on the lights help guide them into the correct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7800" y="2743200"/>
            <a:ext cx="4076640" cy="282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35680" y="2743200"/>
            <a:ext cx="4127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49:13Z</dcterms:created>
  <dc:creator>Kristine Yun</dc:creator>
  <dc:description/>
  <dc:language>en-US</dc:language>
  <cp:lastModifiedBy>Kristine Yun</cp:lastModifiedBy>
  <dcterms:modified xsi:type="dcterms:W3CDTF">2008-02-06T15:23:27Z</dcterms:modified>
  <cp:revision>3</cp:revision>
  <dc:subject/>
  <dc:title>EXPReS Display</dc:title>
</cp:coreProperties>
</file>